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F6B-043D-4B3D-A856-F4AE7C51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168-F227-492A-BBBD-87E35C53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628-7AF5-4691-9073-DD1F37A0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349-22FE-414A-A5A5-B6B203F4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9782-2ABC-49A2-B8FA-63FE428A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3AA6-3637-4979-B467-09E32CA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8AE1-594D-4BA9-9EEE-ABB223C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16D-898C-4645-B70F-A36CD86B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5614-5AFF-4203-A3B2-CD906926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AC23-1A01-4B90-85F5-FBF926C2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778A-A0A8-4019-936F-74AD2C0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FDE-6D88-41D9-8115-2D91CDFA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B16D-7700-45AB-A5DA-4CE2E0E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0C2C-359E-43C3-ABEE-D1A7665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19A-AC27-4F24-8C43-061608EB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6A3-6BD2-49BE-8FC1-265291D8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13CD-FBED-4B7E-9687-EADD90BE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D5FA-403C-4B97-8159-CDC72130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11E1-DC5C-47C5-8C65-446A6697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701D-5003-45FF-A686-1101F6E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B626-EF5C-4322-AA71-6E1A81A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8EF7-F0C0-4F01-8768-B9467A79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447-D449-46A8-984B-4C4BDFE7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11EB-9733-4E6D-9E90-812EF157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5F0E-15B3-4D0D-B38E-DBAEEEF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8E9C-A8FB-41E0-842A-9C9C3AB6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23EF-5FA5-4F93-AD60-9514000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37C3-05EA-43DB-A45A-6C8C4CA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078A-434E-493F-ABBA-F960D57F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724A-2BAC-4C47-921D-1EE9A96F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E1C2-2C2E-4E4C-8AC3-68B315DB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8F5C-6DE8-40D1-9014-69D255F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2AFD-9347-4039-B27B-9657B53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37B-1F9E-4D50-88C6-7A157AD4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239C-3E34-40CC-9474-77121768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308D-2D72-4E7B-AAB4-A0911D3B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59FB-F469-40EB-A737-CAEECD4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9667-67C8-4B35-A8F6-783FE76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73E9-F645-4E0C-9B93-EC46D50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73D0-9ADE-4097-BE91-0F34A967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B479-E84B-4917-88BC-F3862499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2BD1-4632-42F4-9719-649C513A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6004-B70E-4534-8956-1ED891A9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71F1-6633-4BF2-8F44-9B3BE392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03A-51AF-42B6-8586-BDF6DEC6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332AB-F05C-4D13-8891-44799D2D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CAB47-8ED5-4A6B-AC96-5FB47F2D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59E2-1468-41CA-AEFA-9E2875B1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CD32A-5642-4526-8093-A770C798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DD1FF-8CC9-4AB6-B20A-CD1572AE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F38DE-A9C5-41CE-B5CC-14346869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717F-E811-40E5-8B19-07B4669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31407-35CD-455E-9994-AF4C1ADD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5041F-1E14-4C30-B2AB-57501A38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B6D4-C9A9-469E-B172-275335C9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F9E-FCA8-4C8F-9528-4A08B0EE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B293-C806-4D6E-9860-0F5D5D87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5A7-48B5-43B4-98B3-57C7BC3E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7CE-84DA-4763-B666-ADE0333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C3D-FCEE-40D6-BA12-0A912BE4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96D6-8EB4-41BF-9D58-95CCBBEAD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EDD0-4FCA-4FA3-9657-9BDAF3310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3DBE-1EC6-443B-9983-BAFA68B5C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4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3E5B-2483-4A09-A1D1-C825039A7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69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4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5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334-0A1E-41E0-8E63-26E0352E6F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class.unl.edu/biochem/gp2/m_biology/animation/gene/gene_a2.html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neurophilosophy.wordpress.com/2007/05/03/transcribe-dna-sequences-into-music/" TargetMode="External"/><Relationship Id="rId2" Type="http://schemas.openxmlformats.org/officeDocument/2006/relationships/hyperlink" Target="http://www.ncbi.nlm.nih.gov/entrez/viewer.fcgi?db=nuccore&amp;id=90903230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 you understand thi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Bradley Hand ITC"/>
              </a:rPr>
              <a:t>Xie xie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5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Bradley Hand ITC"/>
              </a:rPr>
              <a:t>Thank you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267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know what to transcrib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and stop 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cod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3 bases form a codon that codes for a particular amino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ionine amino acid, but also 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AA, UGA, UA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5" descr="codon"/>
          <p:cNvPicPr/>
          <p:nvPr/>
        </p:nvPicPr>
        <p:blipFill>
          <a:blip r:embed="rId1"/>
          <a:stretch/>
        </p:blipFill>
        <p:spPr>
          <a:xfrm>
            <a:off x="5181480" y="990720"/>
            <a:ext cx="34290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ranscription - Step On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Object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647960" cy="5086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62720" y="1066680"/>
            <a:ext cx="3047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 York"/>
              </a:rPr>
              <a:t>RNA Polymerase unwinds and unzips the DNA double helix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_x0012_transcriptionimage                                             0000799F_x000c_languidpuppy                   B20B2331:"/>
          <p:cNvPicPr/>
          <p:nvPr/>
        </p:nvPicPr>
        <p:blipFill>
          <a:blip r:embed="rId1"/>
          <a:stretch/>
        </p:blipFill>
        <p:spPr>
          <a:xfrm>
            <a:off x="2009880" y="184320"/>
            <a:ext cx="512280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ranscription: Step Two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876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polymerase adds on free-floating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, G, C, 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each bind wi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at STOP co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s RNA poly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s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5" descr="E:\temp\dna.bmp"/>
          <p:cNvPicPr/>
          <p:nvPr/>
        </p:nvPicPr>
        <p:blipFill>
          <a:blip r:embed="rId1"/>
          <a:stretch/>
        </p:blipFill>
        <p:spPr>
          <a:xfrm>
            <a:off x="5105520" y="1828800"/>
            <a:ext cx="3733560" cy="4267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6"/>
          <p:cNvSpPr/>
          <p:nvPr/>
        </p:nvSpPr>
        <p:spPr>
          <a:xfrm>
            <a:off x="6229080" y="5562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Garamond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know what to transla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 mRNA message leaves the nucleus, RNA editing &amp; modifications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&amp; RNA contain sequences that do not code for proteins = IN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NS = IN (BETWEEN) 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es that code for proteins are expressed = EX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ONS = EX (PRESSED SEQUENCE) 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exon2"/>
          <p:cNvPicPr/>
          <p:nvPr/>
        </p:nvPicPr>
        <p:blipFill>
          <a:blip r:embed="rId1"/>
          <a:stretch/>
        </p:blipFill>
        <p:spPr>
          <a:xfrm>
            <a:off x="1219320" y="457200"/>
            <a:ext cx="67816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still in the nucle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NS are cut out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NS are spliced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 RNA sequence is sent to the cytoplasm for trans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RNA splicing.gif"/>
          <p:cNvPicPr/>
          <p:nvPr/>
        </p:nvPicPr>
        <p:blipFill>
          <a:blip r:embed="rId1"/>
          <a:stretch/>
        </p:blipFill>
        <p:spPr>
          <a:xfrm>
            <a:off x="457200" y="380880"/>
            <a:ext cx="800100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que combinations of exons allow for genetic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Content Placeholder 3" descr="alternative_splicing.gif"/>
          <p:cNvPicPr/>
          <p:nvPr/>
        </p:nvPicPr>
        <p:blipFill>
          <a:blip r:embed="rId1"/>
          <a:stretch/>
        </p:blipFill>
        <p:spPr>
          <a:xfrm>
            <a:off x="609480" y="1676520"/>
            <a:ext cx="772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codon"/>
          <p:cNvPicPr/>
          <p:nvPr/>
        </p:nvPicPr>
        <p:blipFill>
          <a:blip r:embed="rId1"/>
          <a:stretch/>
        </p:blipFill>
        <p:spPr>
          <a:xfrm>
            <a:off x="533520" y="1371600"/>
            <a:ext cx="2895480" cy="5257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-class.unl.edu/biochem/gp2/m_biology/animation/gene/gene_a2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5029200" cy="4525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ption an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2520" y="609480"/>
            <a:ext cx="4952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ENTRAL DOGM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OF B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8" name="Picture 5" descr="http://carissalyn.com/fig1.jpg"/>
          <p:cNvPicPr/>
          <p:nvPr/>
        </p:nvPicPr>
        <p:blipFill>
          <a:blip r:embed="rId1"/>
          <a:stretch/>
        </p:blipFill>
        <p:spPr>
          <a:xfrm>
            <a:off x="228600" y="304920"/>
            <a:ext cx="3724200" cy="5943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http://www.medgadget.com/archives/img/sirna.jpg"/>
          <p:cNvPicPr/>
          <p:nvPr/>
        </p:nvPicPr>
        <p:blipFill>
          <a:blip r:embed="rId2"/>
          <a:stretch/>
        </p:blipFill>
        <p:spPr>
          <a:xfrm>
            <a:off x="2743200" y="2362320"/>
            <a:ext cx="60958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central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ttp://www.genomatix.de/online_help/help_gems/genomic_DNA.gif"/>
          <p:cNvPicPr/>
          <p:nvPr/>
        </p:nvPicPr>
        <p:blipFill>
          <a:blip r:embed="rId2"/>
          <a:stretch/>
        </p:blipFill>
        <p:spPr>
          <a:xfrm>
            <a:off x="914400" y="1981080"/>
            <a:ext cx="77421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exon2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RNA leaves the nucle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sage is read at the rib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odon (3 letter message) is translated into 1 amino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NA molecule has one end (anticodon) that matches the mRNA .  Each anticodon specifies an amino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ino acids are bonded together as peptide chains…which fold into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netic Cod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letters = 1 codon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1 amino ac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bio_ch12_6200"/>
          <p:cNvPicPr/>
          <p:nvPr/>
        </p:nvPicPr>
        <p:blipFill>
          <a:blip r:embed="rId1"/>
          <a:stretch/>
        </p:blipFill>
        <p:spPr>
          <a:xfrm>
            <a:off x="1219320" y="1828800"/>
            <a:ext cx="6400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-class.unl.edu/biochem/gp2/m_biology/animation/gene/gene_a3.html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tion of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3" descr="translation.gif"/>
          <p:cNvPicPr/>
          <p:nvPr/>
        </p:nvPicPr>
        <p:blipFill>
          <a:blip r:embed="rId2"/>
          <a:stretch/>
        </p:blipFill>
        <p:spPr>
          <a:xfrm>
            <a:off x="304920" y="1600200"/>
            <a:ext cx="4943520" cy="481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://www.geneticengineering.org/chemis/Chemis-NucleicAcid/Graphics/tRNA.jpg"/>
          <p:cNvPicPr/>
          <p:nvPr/>
        </p:nvPicPr>
        <p:blipFill>
          <a:blip r:embed="rId3"/>
          <a:stretch/>
        </p:blipFill>
        <p:spPr>
          <a:xfrm>
            <a:off x="5181480" y="1752480"/>
            <a:ext cx="364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genome.imim.es/courses/Madrid04/exercises/ensembl/images/ribosome.jpg"/>
          <p:cNvPicPr/>
          <p:nvPr/>
        </p:nvPicPr>
        <p:blipFill>
          <a:blip r:embed="rId1"/>
          <a:stretch/>
        </p:blipFill>
        <p:spPr>
          <a:xfrm>
            <a:off x="380880" y="68580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www.scq.ubc.ca/wp-content/translation_01.gif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actice with this sequ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GATGTTCCGCCGTACGTCGTAACC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CTACAAGGCGGCATGCAGCATTGGC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bottom strand as the complement to the mRNA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tha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nt: Look for where it starts.  How do you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you’ve found the “reading frame”, write in tri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your genetic code wheel to write the amino acid sequence.  How will you know when to sto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y again without he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: CCGTCATGTTCGCGCTACAAATGAAAT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GCAGTACAAGCGCGATGTTTACTT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pept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 &amp;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4560" y="23623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make sense of the DNA messag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otype to Pheno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http://www.pingrysmartteam.com/images/model_pics/sigma%20factor-DNA%20promoter%20complex.jpg"/>
          <p:cNvPicPr/>
          <p:nvPr/>
        </p:nvPicPr>
        <p:blipFill>
          <a:blip r:embed="rId1"/>
          <a:stretch/>
        </p:blipFill>
        <p:spPr>
          <a:xfrm>
            <a:off x="2514600" y="3581280"/>
            <a:ext cx="56386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enome is an entire set of 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ahashi and Miller (UCLA, 200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urophilosophy.wordpress.com/2007/05/03/transcribe-dna-sequences-into-mus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music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cbi.nlm.nih.gov/entrez/viewer.fcgi?db=nuccore&amp;id=90903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ington g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entral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libri"/>
              </a:rPr>
              <a:t>Central Dogma of Cell Biolog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codes for DNA =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codes for RNA = TRAN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codes for protein =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3360" y="-136440"/>
            <a:ext cx="703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entraldogma2.gif"/>
          <p:cNvPicPr/>
          <p:nvPr/>
        </p:nvPicPr>
        <p:blipFill>
          <a:blip r:embed="rId1"/>
          <a:stretch/>
        </p:blipFill>
        <p:spPr>
          <a:xfrm>
            <a:off x="228600" y="4511520"/>
            <a:ext cx="86709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   vs.  Tran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-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s at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winds with Heli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1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with 2 D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new, ½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s at promoter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need Helicase to unw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proofre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1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with same DNA and 1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converting DNA to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place in the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main step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NA pol binds to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cleotide chain is built, complementary to the DNA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NA pol stops transcrib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know what to transcrib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 region of DNA that signals the start of a ge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quence of letters that signals “gene ahead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TA box” and enhan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promoter_f.jpg"/>
          <p:cNvPicPr/>
          <p:nvPr/>
        </p:nvPicPr>
        <p:blipFill>
          <a:blip r:embed="rId1"/>
          <a:stretch/>
        </p:blipFill>
        <p:spPr>
          <a:xfrm>
            <a:off x="609480" y="3886200"/>
            <a:ext cx="8134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mo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ontent Placeholder 3" descr="TATA box.gif"/>
          <p:cNvPicPr/>
          <p:nvPr/>
        </p:nvPicPr>
        <p:blipFill>
          <a:blip r:embed="rId1"/>
          <a:stretch/>
        </p:blipFill>
        <p:spPr>
          <a:xfrm>
            <a:off x="1171440" y="1600200"/>
            <a:ext cx="67532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0:35:33Z</dcterms:created>
  <dc:creator>Joanne Lilliendahl</dc:creator>
  <dc:description/>
  <dc:language>en-US</dc:language>
  <cp:lastModifiedBy>udsd</cp:lastModifiedBy>
  <dcterms:modified xsi:type="dcterms:W3CDTF">2008-05-20T20:54:16Z</dcterms:modified>
  <cp:revision>39</cp:revision>
  <dc:subject/>
  <dc:title>Slide 1</dc:title>
</cp:coreProperties>
</file>